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C80-CBE5-464B-8357-7E2EBBEE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34D-BAD6-4E2A-BFF8-296AB3E6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A19-A4F7-40C8-8E07-61AF4F9E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EA6-F7CA-4BE7-86B6-A320C122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314-3858-4B1C-B433-DE6CF6EA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E46-4AE8-41C2-ACA1-296C28A1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769-46A8-4B02-9181-10E14287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F99-0BBB-437D-9E64-4B2D667E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611-EEAE-452B-9D55-A27D709A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9CE-497C-4D41-9268-2A61893C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74E-C227-44B5-98A8-E92F1AFA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B00-118E-4803-BE93-7DF7ED61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Click to edit the title text format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spcBef>
                <a:spcPts val="9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2" marL="878760" indent="-261360">
              <a:spcBef>
                <a:spcPts val="9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3" marL="1140120" indent="-259920">
              <a:spcBef>
                <a:spcPts val="95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4" marL="1422720" indent="-281160">
              <a:spcBef>
                <a:spcPts val="95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5" marL="1422720" indent="-281160">
              <a:spcBef>
                <a:spcPts val="9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6" marL="1422720" indent="-281160">
              <a:spcBef>
                <a:spcPts val="9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0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0386-3BEE-4E3E-A8E6-16822D2A8178}" type="slidenum">
              <a:rPr b="0" lang="en-US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Browallia New"/>
              </a:rPr>
              <a:t>Click to edit the title text format</a:t>
            </a:r>
            <a:endParaRPr b="1" lang="en-US" sz="5400" spc="-1" strike="noStrike">
              <a:solidFill>
                <a:srgbClr val="330066"/>
              </a:solidFill>
              <a:latin typeface="Browallia New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7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lvl="1" marL="344520"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2" marL="693720" algn="ctr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3" marL="988920" algn="ctr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4" marL="1282680" algn="ctr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5" marL="12826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6" marL="12826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Browallia New"/>
              </a:rPr>
              <a:t>Queuing Models</a:t>
            </a:r>
            <a:endParaRPr b="1" lang="en-US" sz="54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530528  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การประเมินประสิทธิภาพของคอมพิวเตอร์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อ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.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ดร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.</a:t>
            </a: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ณัฐวุฒิ หนูไพโรจน์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ภาควิชาวิศวกรรมคอมพิวเตอร์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  <a:p>
            <a:pPr indent="0" algn="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Browallia New"/>
              </a:rPr>
              <a:t>จุฬาลงกรณ์มหาวิทยาลัย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Little’s Law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N –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จำนวนเฉลี่ยของงานในระบบ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(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รวมทั้งที่ใช้บริการและที่อยู่ในคิว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N = W/T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R = W/C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N = W/C * C/T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N = R * X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5667120" cy="3229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28600" y="5334120"/>
            <a:ext cx="2895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925-E534-4FFE-AEFA-1122A7B7A5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Terminal Response Time Law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N –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จำนว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terminal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Z – thinking time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N = (R + Z) * X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R = N/X - Z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876920" y="3352680"/>
          <a:ext cx="356076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352680"/>
                    <a:ext cx="35607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622280" y="29718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 job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9800" y="41911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88040" y="5105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50840" y="51055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657600"/>
            <a:ext cx="2895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35B-1DC5-4058-B5CB-14CFBB1D71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Forced Flow Law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Vk – visit ration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ที่อุปกรณ์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k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Vk = Ck / C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Ck/T = Vk * C/T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Xk = Vk * X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572000"/>
            <a:ext cx="2895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303-2A40-4CC1-8C1C-63CE6F08B8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Workload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31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2C6-9E16-4C1A-AF9C-E1C88F66B3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300" spc="-1" strike="noStrike">
                <a:solidFill>
                  <a:srgbClr val="330066"/>
                </a:solidFill>
                <a:latin typeface="Browallia New"/>
              </a:rPr>
              <a:t>ค่ากรอบประสิทธิภาพ</a:t>
            </a:r>
            <a:br>
              <a:rPr sz="4300"/>
            </a:br>
            <a:r>
              <a:rPr b="1" lang="en-US" sz="4300" spc="-1" strike="noStrike">
                <a:solidFill>
                  <a:srgbClr val="330066"/>
                </a:solidFill>
                <a:latin typeface="Browallia New"/>
              </a:rPr>
              <a:t>(Performance Bounds)</a:t>
            </a:r>
            <a:endParaRPr b="1" lang="en-US" sz="43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การประมาณ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ค่าต่ำสุดที่เป็นไปได้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กรอบล่าง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 –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lower bound)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ของ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R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ค่าสูงสุดที่เป็นไปได้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กรอบบน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 –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upper bound)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ของ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X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05280" indent="-3052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การคำนวณจะไม่ซับซ้อน ทำได้ง่ายและเร็ว แต่ค่าที่ได้จะไม่ตรงมาก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05280" indent="-3052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ใช้เป็นแค่แนวทางในการทำงาน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DEC-2827-4F47-80D2-6E94311DE0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ค่ากรอบของระบบเปิด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Uk = Xk * Sk = Vk * Sk * X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25800" indent="-32580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จุดที่กำหนดกรอบความสามารถของระบบคืออุปกรณ์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k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ที่มีการทำงานอย่างเต็มที่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Uk = 1)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ซึ่งเป็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bottleneck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(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มีค่า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Vk * Sk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มากที่สุด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25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&lt; Xmax = 1/(Vb*Sb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25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25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325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ถ้า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เกินกว่า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Xmax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ระบบจะไม่เสถียร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R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จะเป็น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7200" y="4267080"/>
                <a:ext cx="2743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k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04920" y="3733920"/>
            <a:ext cx="403848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3EB-FB52-44CF-B22B-FE1F54376F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05600" cy="396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829-689B-4B8D-8466-A0895FA0976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ค่ากรอบของระบบปิด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52520" y="1719360"/>
            <a:ext cx="463716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A67-7EC7-4C1B-9DD0-85AB084EA08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7934040" cy="296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549-DE34-432F-BB73-BF6D71301A3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300" spc="-1" strike="noStrike">
                <a:solidFill>
                  <a:srgbClr val="330066"/>
                </a:solidFill>
                <a:latin typeface="Browallia New"/>
              </a:rPr>
              <a:t>พฤติกรรมของระบบจริง</a:t>
            </a:r>
            <a:endParaRPr b="1" lang="en-US" sz="43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ระบบโดยทั่วไปจะมีพฤติกรรมดังนี้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service time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เป็นแบบ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exponential distribution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inter-arrival time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เป็นแบบ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exponential distribution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ทั้งสองอย่างจะมีลักษณะเป็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memoryless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ถ้างานกำลังใช้อุปกรณ์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k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อยู่ ระยะเวลาที่งานจะใช้อุปกรณ์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k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จะมีค่าเฉลี่ยคงที่ ไม่ว่างานนี้ใช้อุปกรณ์มานานเพียงใด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15960" indent="-30924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สำหรับระบบเปิด ช่วงระยะเวลาที่งานถัดไปจะเข้ามาในระบบนับจากปัจจุบันจะเป็นค่าเฉลี่ยคงที่ ไม่ว่างานที่มาถึงก่อนหน้าจะมาถึงนานเพียงใด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D74-89CA-4D1E-A3CC-A9B97B8C7EE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100" spc="-1" strike="noStrike">
                <a:solidFill>
                  <a:srgbClr val="330066"/>
                </a:solidFill>
                <a:latin typeface="Browallia New"/>
              </a:rPr>
              <a:t>หัวข้อการบรรยาย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นิยามพื้นฐาน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กฎพื้นฐาน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การหาค่ากรอบประสิทธิภาพ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14A-B832-43C1-8CA1-BF3863BF6E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Models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Models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64560" indent="-33372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การนำเสนอระบบในรูปแบบที่ง่ายขึ้น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64560" indent="-33372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อธิบายพฤติกรรมของสิ่งต่างๆด้วยสูตรคณิตศาสตร์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64560" indent="-33372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สะดวก รวดเร็ว แต่ใช้ได้กับระบบที่ไม่ซับซ้อน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329040" indent="-32904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Queuing Models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664560" indent="-33372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การมองระบบเป็น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network of queues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64560" indent="-33372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สูตรช่วยประเมินตัวแปรประสิทธิภาพ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lvl="1" marL="664560" indent="-33372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ใช้ในช่วง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stead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state”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672-B365-435F-9DC3-B93AFE24EF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Browallia New"/>
              </a:rPr>
              <a:t>Queuing Models of Computer System</a:t>
            </a:r>
            <a:endParaRPr b="1" lang="en-US" sz="4700" spc="-1" strike="noStrike">
              <a:solidFill>
                <a:srgbClr val="330066"/>
              </a:solidFill>
              <a:latin typeface="Browallia Ne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776920" cy="32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C17-8283-486C-979C-B2DFA9615C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นิยามพื้นฐา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808520" cy="15620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T –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ระยะเวลาที่ทำการประเมิน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A –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จำนวนงานที่เข้าระบบ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Arrive”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C –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จำนวนงานที่เสร็จจากระบบ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Complete”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Ck –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จำนวนงานที่เสร็จจากการรับบริการที่อุปกรณ์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Bk –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ระยะเวลาที่อุปกรณ์ </a:t>
            </a:r>
            <a:r>
              <a:rPr b="0" lang="en-US" sz="2600" spc="-1" strike="noStrike">
                <a:solidFill>
                  <a:srgbClr val="000000"/>
                </a:solidFill>
                <a:latin typeface="Browallia New"/>
              </a:rPr>
              <a:t>k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ให้บริการ 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(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ไม่ว่าง</a:t>
            </a:r>
            <a:r>
              <a:rPr b="0" lang="th-TH" sz="2600" spc="-1" strike="noStrike">
                <a:solidFill>
                  <a:srgbClr val="000000"/>
                </a:solidFill>
                <a:latin typeface="Browallia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019-438B-4305-834E-978B0B42D5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สูตรพื้นฐา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= A/T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	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อัตราการมาถึงของงา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arrival rate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X = C/T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	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อัตราการเสร็จสิ้นของงา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system throughput rate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Xk = Ck/T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Throughput rate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ที่อุปกรณ์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k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Uk = Bk/T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Utilization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ที่อุปกรณ์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k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Sk = Bk/Ck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	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เวลาเฉลี่ยที่งานใช้ที่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k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แต่ละครั้ง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(service time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Vk = Ck/C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	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จำนวนครั้งเฉลี่ยที่งานเรียกใช้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k (visit ratio)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594-AD5A-4E82-B905-AAFA0AD34C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100" spc="-1" strike="noStrike">
                <a:solidFill>
                  <a:srgbClr val="330066"/>
                </a:solidFill>
                <a:latin typeface="Browallia New"/>
              </a:rPr>
              <a:t>กฎพื้นฐาน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Job Flow Balance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Utilization Law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Little’s Law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Terminal Response Time Law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Forced Flow Law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02C-BD5D-4484-945B-08C4EDA16D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Job Flow Balance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input rate = output rate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จำนวนที่เข้าอุปกรณ์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k = </a:t>
            </a: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จำนวนที่ออกจากอุปกรณ์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k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291600" indent="-291600">
              <a:lnSpc>
                <a:spcPct val="90000"/>
              </a:lnSpc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ใช้ได้ในสภาวะ </a:t>
            </a: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steady state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lvl="1" marL="588240" indent="-295560">
              <a:lnSpc>
                <a:spcPct val="90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อัตราการมาถึงของงานไม่เกินความสามารถของระบบ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588240" indent="-295560">
              <a:lnSpc>
                <a:spcPct val="90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Utilization </a:t>
            </a: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ไม่เกิน </a:t>
            </a:r>
            <a:r>
              <a:rPr b="0" lang="en-US" sz="3400" spc="-1" strike="noStrike">
                <a:solidFill>
                  <a:srgbClr val="000000"/>
                </a:solidFill>
                <a:latin typeface="Browallia New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  <a:p>
            <a:pPr lvl="1" marL="588240" indent="-295560">
              <a:lnSpc>
                <a:spcPct val="90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Browallia New"/>
              </a:rPr>
              <a:t>ระบบทำงานมาระยะเวลาหนึ่ง</a:t>
            </a:r>
            <a:endParaRPr b="0" lang="en-US" sz="3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828800"/>
            <a:ext cx="73152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BF5-8C90-4D7B-A381-58050E8F7F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0066"/>
                </a:solidFill>
                <a:latin typeface="Browallia New"/>
              </a:rPr>
              <a:t>Utilization Law</a:t>
            </a:r>
            <a:endParaRPr b="1" lang="en-US" sz="5100" spc="-1" strike="noStrike">
              <a:solidFill>
                <a:srgbClr val="330066"/>
              </a:solidFill>
              <a:latin typeface="Browallia Ne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Uk = Bk/T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121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Uk = Bk/Ck * Ck/T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121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wallia New"/>
              </a:rPr>
              <a:t>Uk = Sk * Xk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12120" indent="-31212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>
                <a:solidFill>
                  <a:srgbClr val="000000"/>
                </a:solidFill>
                <a:latin typeface="Browallia New"/>
              </a:rPr>
              <a:t>ตัวอย่าง</a:t>
            </a:r>
            <a:endParaRPr b="0" lang="en-US" sz="3800" spc="-1" strike="noStrike">
              <a:solidFill>
                <a:srgbClr val="000000"/>
              </a:solidFill>
              <a:latin typeface="Browallia New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จากการสังเกตพบว่า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disk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มีการทำงานเฉลี่ย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15 transaction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ต่อวินาทีแล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ระยะเวลาเฉลี่ยของแต่ละการงาน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30 ms </a:t>
            </a:r>
            <a:r>
              <a:rPr b="0" lang="th-TH" sz="3000" spc="-1" strike="noStrike">
                <a:solidFill>
                  <a:srgbClr val="000000"/>
                </a:solidFill>
                <a:latin typeface="Browallia New"/>
              </a:rPr>
              <a:t>จงหาค่า </a:t>
            </a:r>
            <a:r>
              <a:rPr b="0" lang="en-US" sz="3000" spc="-1" strike="noStrike">
                <a:solidFill>
                  <a:srgbClr val="000000"/>
                </a:solidFill>
                <a:latin typeface="Browallia New"/>
              </a:rPr>
              <a:t>utilization</a:t>
            </a:r>
            <a:endParaRPr b="0" lang="en-US" sz="3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200400"/>
            <a:ext cx="31240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euing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AC0-0D01-4B72-B532-68808497F9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อ.ดร.ณัฐวุฒิ หนูไพโรจน์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8:44:32Z</dcterms:created>
  <dc:creator>Natawut Nupairoj</dc:creator>
  <dc:description/>
  <dc:language>en-US</dc:language>
  <cp:lastModifiedBy>Natawut Nupairoj</cp:lastModifiedBy>
  <dcterms:modified xsi:type="dcterms:W3CDTF">2003-12-16T18:52:14Z</dcterms:modified>
  <cp:revision>33</cp:revision>
  <dc:subject/>
  <dc:title>ความรู้เบื้องต้นเกี่ยวกับ การประเมินสมรรถภาพ</dc:title>
</cp:coreProperties>
</file>